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94AF-153D-455C-A2BF-66F8F7A2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FD1F-B21C-4BB3-9CE6-5A687DDD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484E-979B-463C-A608-8248FFDA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AA6F-0E79-4B26-8B5F-06F0DFA7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942F-9F31-49CF-8F24-BB51EE53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E677-77A9-493A-ABEC-A710B528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6EA3-6E29-47FE-8C81-310B38AC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1350-28F0-4ADF-ABC1-A30EA942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F722-8418-4583-BD31-B7CBC3AE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3E6E-97F5-422C-B935-D08212A5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91DE-0BED-4A91-90FD-9ED75C87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A2F0-C881-4D74-8385-35B59EBC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6099-1D46-4FE9-AF5C-F457711A43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144792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间自有真情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25146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川地震灾害中的感人场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4114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28800" y="1905120"/>
            <a:ext cx="449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鱼水之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33526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军民之情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4999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米高空，高难度空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1843200"/>
            <a:ext cx="784872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5691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733920" y="6095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争分夺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153280" cy="5586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00400" y="6019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命的接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153280" cy="5586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00400" y="60199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运送紧急物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563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76720" y="60958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力透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305920" cy="5691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429000" y="6095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鱼水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85760"/>
            <a:ext cx="8305920" cy="5691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76720" y="60958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亲人解放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361800"/>
            <a:ext cx="4467240" cy="6496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105520" y="53352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今天网络上流传的一张图片。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.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后救援战士怀抱一个五个月大婴儿的照片，孩子满眼新奇地望着他，并不知道世界发生了什么。青涩的兵，咧开嘴笑。我没有看到他是否饱含眼泪，但在看图的时候，无数人都泪流满面。    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66880" y="198108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亲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452520"/>
            <a:ext cx="8143920" cy="55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305920" cy="5691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76720" y="60199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询问亲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784760" cy="6400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867280" y="304920"/>
            <a:ext cx="266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哥哥背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妹妹逃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641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733920" y="6019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守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33200"/>
            <a:ext cx="8381880" cy="5743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76720" y="60958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深情一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33200"/>
            <a:ext cx="8381880" cy="5743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43200" y="6095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失去孩子的父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171360"/>
            <a:ext cx="8229600" cy="5639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971800" y="6019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失去亲人的母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229600" cy="5641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124080" y="6019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失去丈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5691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29000" y="6172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喜极而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52480" y="1981080"/>
            <a:ext cx="54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220968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社会爱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520" y="237960"/>
            <a:ext cx="8229600" cy="5639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666880" y="60958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灾区婴儿喂奶的民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48720" cy="5380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0" y="6019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汶川县映秀镇一片废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696080" cy="5443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124080" y="5867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龙、杨在成捐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749920" cy="6324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553080" y="3808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社会捐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5819760" cy="6400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553080" y="6858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社会捐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848360" cy="5415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86200" y="60199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童真中的希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762440" cy="3171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29000" y="3429000"/>
            <a:ext cx="4762440" cy="3171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90720" y="39625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真诚的祝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10666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稚嫩的笔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42102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480852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4800600" cy="3600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181480" y="3924360"/>
            <a:ext cx="3619800" cy="2490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334120" y="45720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中华人民共和国成立以来，国旗第一次为普通国民而降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828960" cy="5105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952880" y="228600"/>
            <a:ext cx="3727440" cy="5105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657600" y="5791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哀悼遇难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4991040" cy="3324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562720" y="304920"/>
            <a:ext cx="3441600" cy="5105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44197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哀悼遇难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6400800" cy="4595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19320" y="51814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晚拍摄的四川省绵竹市汉旺镇东汽中学发掘现场的一幕――一名死难学生手里紧紧攥着一支笔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762440" cy="3171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14800" y="2895480"/>
            <a:ext cx="4762440" cy="3686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62120" y="4495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哀悼遇难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09480" y="3049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思考与感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次震灾既是一场灾难，但也给我们带来很多宝贵的东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23623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人性的伟大和美好，每个中国人都在灵魂上得到了净化，在精神上获得了明显的提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3657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中华民族的凝聚力得到空前的提高，它将成为我们国家今后发展的强大动力和宝贵财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5691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819520" y="60958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露天复习备考的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66680" y="990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19810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我们从这场灾难中得到什么？我们应该做出哪些改变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4038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妈妈，别哭，我去了天堂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随着地动山摇的一声巨响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看见你跌坐在嘈杂的操场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撕心裂肺的呼喊还在我的耳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妈妈，别哭，我去了天堂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漫天的星星可都是你的泪光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黑夜里我不是孤独的流浪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同学们手牵手嘶哑地歌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妈妈，别哭，我去了天堂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老师说那边再没有鸟语花香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所以我恋恋不舍回头张望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绿水青山却是一片苍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妈妈，别哭，我去了天堂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只是我舍不下曾经的梦想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帮我把漂亮的书包好好收藏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听见废墟里姐姐的书声朗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304920"/>
            <a:ext cx="41911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妈妈，别哭，我去了天堂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惜我等不及看到绿色的军装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还想写完老师布置的作业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留恋着黑板、书本和课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妈妈，别哭，我去了天堂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再淘气也不愿让你心伤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会牢牢记住你微笑的模样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世还要依偎你温暖的胸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妈妈，别哭，我去了天堂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灯光生活总就有希望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睁开眼睛我要看你活得坚强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的爱永远把我的路照亮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57400" y="1752480"/>
            <a:ext cx="480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爱民之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1532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43200" y="6019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理急赴震灾现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305920" cy="5693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62320" y="60958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别哭！政府会管你们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153280" cy="5587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90920" y="6019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席与总理在救灾现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37:41Z</dcterms:modified>
  <cp:revision>24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